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66880" y="691920"/>
            <a:ext cx="51242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8A6-E135-4153-8247-93228C3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F1F-58D6-4947-BA43-6A65F485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8E2-0478-4B01-927B-049174B1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E9C-7DC2-46E1-9567-CA119F3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81B-0689-4DE1-9D94-AC6E3B5C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804-AB35-46ED-9CC0-94B24A7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C65-2E23-4B9D-AB75-64A4C29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921-D813-42A0-BAA2-0E69DF4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774-31AB-4272-A3D9-7A6905E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944-B6DF-4B73-8F7C-5A2D743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9D-251A-4A28-A8C7-8CE1950B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552-6A2A-4FEB-A5A4-829D54A3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c3319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c3319"/>
              </a:gs>
              <a:gs pos="50000">
                <a:srgbClr val="996633"/>
              </a:gs>
              <a:gs pos="100000">
                <a:srgbClr val="4c33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6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rc 7"/>
          <p:cNvSpPr/>
          <p:nvPr/>
        </p:nvSpPr>
        <p:spPr>
          <a:xfrm>
            <a:off x="6437160" y="4680"/>
            <a:ext cx="3857760" cy="6851880"/>
          </a:xfrm>
          <a:custGeom>
            <a:avLst/>
            <a:gdLst/>
            <a:ahLst/>
            <a:rect l="l" t="t" r="r" b="b"/>
            <a:pathLst>
              <a:path fill="none" w="21600" h="43160">
                <a:moveTo>
                  <a:pt x="20791" y="43159"/>
                </a:moveTo>
                <a:cubicBezTo>
                  <a:pt x="9184" y="42724"/>
                  <a:pt x="0" y="33189"/>
                  <a:pt x="0" y="21575"/>
                </a:cubicBezTo>
                <a:cubicBezTo>
                  <a:pt x="-1" y="10049"/>
                  <a:pt x="9048" y="554"/>
                  <a:pt x="20560" y="0"/>
                </a:cubicBezTo>
              </a:path>
              <a:path stroke="0" w="21600" h="43160">
                <a:moveTo>
                  <a:pt x="20791" y="43159"/>
                </a:moveTo>
                <a:cubicBezTo>
                  <a:pt x="9184" y="42724"/>
                  <a:pt x="0" y="33189"/>
                  <a:pt x="0" y="21575"/>
                </a:cubicBezTo>
                <a:cubicBezTo>
                  <a:pt x="-1" y="10049"/>
                  <a:pt x="9048" y="554"/>
                  <a:pt x="20560" y="0"/>
                </a:cubicBezTo>
                <a:lnTo>
                  <a:pt x="21600" y="21575"/>
                </a:lnTo>
                <a:lnTo>
                  <a:pt x="20791" y="43159"/>
                </a:lnTo>
                <a:close/>
              </a:path>
            </a:pathLst>
          </a:custGeom>
          <a:noFill/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rc 8"/>
          <p:cNvSpPr/>
          <p:nvPr/>
        </p:nvSpPr>
        <p:spPr>
          <a:xfrm>
            <a:off x="7802640" y="-836640"/>
            <a:ext cx="2485800" cy="2362320"/>
          </a:xfrm>
          <a:custGeom>
            <a:avLst/>
            <a:gdLst/>
            <a:ahLst/>
            <a:rect l="l" t="t" r="r" b="b"/>
            <a:pathLst>
              <a:path fill="none" w="20212" h="21599">
                <a:moveTo>
                  <a:pt x="19992" y="21598"/>
                </a:moveTo>
                <a:cubicBezTo>
                  <a:pt x="11082" y="21508"/>
                  <a:pt x="3142" y="15955"/>
                  <a:pt x="-1" y="7618"/>
                </a:cubicBezTo>
              </a:path>
              <a:path stroke="0" w="20212" h="21599">
                <a:moveTo>
                  <a:pt x="19992" y="21598"/>
                </a:moveTo>
                <a:cubicBezTo>
                  <a:pt x="11082" y="21508"/>
                  <a:pt x="3142" y="15955"/>
                  <a:pt x="-1" y="7618"/>
                </a:cubicBezTo>
                <a:lnTo>
                  <a:pt x="20212" y="0"/>
                </a:lnTo>
                <a:lnTo>
                  <a:pt x="19992" y="21598"/>
                </a:lnTo>
                <a:close/>
              </a:path>
            </a:pathLst>
          </a:custGeom>
          <a:noFill/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 flipH="1" flipV="1">
            <a:off x="7691040" y="-3600"/>
            <a:ext cx="2389320" cy="270036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8151840" y="-11160"/>
            <a:ext cx="0" cy="681048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1440" y="596880"/>
            <a:ext cx="102855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4FE-9AC3-4387-8240-6A3CA558B38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771480" y="5638680"/>
            <a:ext cx="439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WordArt 27"/>
          <p:cNvSpPr txBox="1"/>
          <p:nvPr/>
        </p:nvSpPr>
        <p:spPr>
          <a:xfrm>
            <a:off x="1542960" y="1700280"/>
            <a:ext cx="784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YANOTIC   CONGENITAL     HEART   DIS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29"/>
          <p:cNvSpPr txBox="1"/>
          <p:nvPr/>
        </p:nvSpPr>
        <p:spPr>
          <a:xfrm>
            <a:off x="1542960" y="4508640"/>
            <a:ext cx="750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 M. ALQURASH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bstein's Anoma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eb"/>
          <p:cNvPicPr/>
          <p:nvPr/>
        </p:nvPicPr>
        <p:blipFill>
          <a:blip r:embed="rId1"/>
          <a:stretch/>
        </p:blipFill>
        <p:spPr>
          <a:xfrm>
            <a:off x="2622600" y="1484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904392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bstein's Anoma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ebstine"/>
          <p:cNvPicPr/>
          <p:nvPr/>
        </p:nvPicPr>
        <p:blipFill>
          <a:blip r:embed="rId1"/>
          <a:stretch/>
        </p:blipFill>
        <p:spPr>
          <a:xfrm>
            <a:off x="2911320" y="1989000"/>
            <a:ext cx="444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b22_contetralogy"/>
          <p:cNvPicPr/>
          <p:nvPr/>
        </p:nvPicPr>
        <p:blipFill>
          <a:blip r:embed="rId1"/>
          <a:stretch/>
        </p:blipFill>
        <p:spPr>
          <a:xfrm>
            <a:off x="1687680" y="1324080"/>
            <a:ext cx="5999040" cy="5533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32732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tralogy of Fal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22240" y="2637000"/>
          <a:ext cx="8796600" cy="3816360"/>
        </p:xfrm>
        <a:graphic>
          <a:graphicData uri="http://schemas.openxmlformats.org/drawingml/2006/table">
            <a:tbl>
              <a:tblPr/>
              <a:tblGrid>
                <a:gridCol w="4357800"/>
                <a:gridCol w="1433520"/>
                <a:gridCol w="300528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EM at 2</a:t>
                      </a:r>
                      <a:r>
                        <a:rPr b="0" lang="en-US" sz="20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ICS transmitted to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ild Cyanosis OR no  cyan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ot in di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VH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AD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oot shaped he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c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ight a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17"/>
          <p:cNvSpPr/>
          <p:nvPr/>
        </p:nvSpPr>
        <p:spPr>
          <a:xfrm>
            <a:off x="534960" y="1268280"/>
            <a:ext cx="88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ralogy of Fal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4495680" y="1371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tralogy of F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fallots"/>
          <p:cNvPicPr/>
          <p:nvPr/>
        </p:nvPicPr>
        <p:blipFill>
          <a:blip r:embed="rId1"/>
          <a:stretch/>
        </p:blipFill>
        <p:spPr>
          <a:xfrm>
            <a:off x="3127320" y="170028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pulmatresiavsd"/>
          <p:cNvPicPr/>
          <p:nvPr/>
        </p:nvPicPr>
        <p:blipFill>
          <a:blip r:embed="rId1"/>
          <a:stretch/>
        </p:blipFill>
        <p:spPr>
          <a:xfrm>
            <a:off x="2048040" y="1628640"/>
            <a:ext cx="647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ATR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etpulmatresia"/>
          <p:cNvPicPr/>
          <p:nvPr/>
        </p:nvPicPr>
        <p:blipFill>
          <a:blip r:embed="rId1"/>
          <a:stretch/>
        </p:blipFill>
        <p:spPr>
          <a:xfrm>
            <a:off x="2982960" y="1700280"/>
            <a:ext cx="41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947556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ANOSIS  with increase pulmonary flow (CYANOSIS WITH HEART FAILURE )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SITION OF THE GREAT AR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ANOMALOUS PULMONARY VENOUS DRAIN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transposition"/>
          <p:cNvPicPr/>
          <p:nvPr/>
        </p:nvPicPr>
        <p:blipFill>
          <a:blip r:embed="rId1"/>
          <a:stretch/>
        </p:blipFill>
        <p:spPr>
          <a:xfrm>
            <a:off x="1471680" y="1312920"/>
            <a:ext cx="6912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5120" y="2492280"/>
          <a:ext cx="9564840" cy="3816360"/>
        </p:xfrm>
        <a:graphic>
          <a:graphicData uri="http://schemas.openxmlformats.org/drawingml/2006/table">
            <a:tbl>
              <a:tblPr/>
              <a:tblGrid>
                <a:gridCol w="4822920"/>
                <a:gridCol w="1744560"/>
                <a:gridCol w="299736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Usually no murmu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yanosis visibly mild may be mis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mfortable until PDA clo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VH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ay be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eralized   cardiomega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arrow mediastin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ncreased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ay be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8"/>
          <p:cNvSpPr/>
          <p:nvPr/>
        </p:nvSpPr>
        <p:spPr>
          <a:xfrm>
            <a:off x="1614600" y="134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nsposition of great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TIC CH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b_cyanosis1"/>
          <p:cNvPicPr/>
          <p:nvPr/>
        </p:nvPicPr>
        <p:blipFill>
          <a:blip r:embed="rId1"/>
          <a:stretch/>
        </p:blipFill>
        <p:spPr>
          <a:xfrm>
            <a:off x="2048040" y="1916280"/>
            <a:ext cx="640872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tgv"/>
          <p:cNvPicPr/>
          <p:nvPr/>
        </p:nvPicPr>
        <p:blipFill>
          <a:blip r:embed="rId1"/>
          <a:stretch/>
        </p:blipFill>
        <p:spPr>
          <a:xfrm>
            <a:off x="2695680" y="1916280"/>
            <a:ext cx="49705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TGA2"/>
          <p:cNvPicPr/>
          <p:nvPr/>
        </p:nvPicPr>
        <p:blipFill>
          <a:blip r:embed="rId1"/>
          <a:stretch/>
        </p:blipFill>
        <p:spPr>
          <a:xfrm>
            <a:off x="0" y="1084320"/>
            <a:ext cx="102870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9200" y="259920"/>
            <a:ext cx="9098280" cy="15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ACHYPNEA, TACHYCARDIA,SWEATING, PALLOR, POOR FEEDING AND MILD CYAN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V.S.D., P.D.A., A.V.S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MALOUS  L.C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rioventricular Septal De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v canal2"/>
          <p:cNvPicPr/>
          <p:nvPr/>
        </p:nvPicPr>
        <p:blipFill>
          <a:blip r:embed="rId1"/>
          <a:stretch/>
        </p:blipFill>
        <p:spPr>
          <a:xfrm>
            <a:off x="2190600" y="1844640"/>
            <a:ext cx="540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560" y="549000"/>
            <a:ext cx="947448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RCTATION OF THE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AORTIC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LASTIC LEFT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7680" y="765000"/>
            <a:ext cx="94726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hypoplacticLeftHeart"/>
          <p:cNvPicPr/>
          <p:nvPr/>
        </p:nvPicPr>
        <p:blipFill>
          <a:blip r:embed="rId1"/>
          <a:stretch/>
        </p:blipFill>
        <p:spPr>
          <a:xfrm>
            <a:off x="750960" y="1268280"/>
            <a:ext cx="684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9560" y="404280"/>
            <a:ext cx="9474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XR-HLHS-congested"/>
          <p:cNvPicPr/>
          <p:nvPr/>
        </p:nvPicPr>
        <p:blipFill>
          <a:blip r:embed="rId1"/>
          <a:stretch/>
        </p:blipFill>
        <p:spPr>
          <a:xfrm>
            <a:off x="2119320" y="1193760"/>
            <a:ext cx="5472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91695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197000"/>
            <a:ext cx="92581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lhsm"/>
          <p:cNvPicPr/>
          <p:nvPr/>
        </p:nvPicPr>
        <p:blipFill>
          <a:blip r:embed="rId1"/>
          <a:stretch/>
        </p:blipFill>
        <p:spPr>
          <a:xfrm>
            <a:off x="2408400" y="1341360"/>
            <a:ext cx="50400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9200" y="620640"/>
            <a:ext cx="945684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IAGNOSTIC APPROACH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(CHEST X-RAY, EC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C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947412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CHEST X-RA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MONARY VASCULAR MAR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AT-SHAPED HEART: T.O.F.,TRICUSPID ATR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G ON SIDE: T.G.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MAN: T.A.P.V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771480" y="5638680"/>
            <a:ext cx="439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60" y="1197000"/>
            <a:ext cx="9536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YANOSI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EFINITION OF CENTRAL CYANO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2960" y="3141360"/>
            <a:ext cx="7315200" cy="307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LUE DISCOLOURATION OF THE SKIN &amp; MUCOUS MEMBR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ETECTABLE, WHEN THE DEOXYGENATED HEAMOGLOBIN IS MORE THAN 5 G/100 ML.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(capill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SATURATION OF ARTERIAL BLOOD  &lt;85%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9345240" y="5183280"/>
            <a:ext cx="4863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OSTAGLANDIN INDIC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TIC CARDIAC LESION WITH OBSTRUCTION TO PULMONARY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TR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CUSPID ATRES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PULMONARY VALVE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CYANOTIC C.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DICATION OF PROSTAGLANDI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TIC LESIONS WITH CLOSED PULMONARY RE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SITION OF GREAT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ANOMALOUS PULMONARY VENOUS DRAINAGE (OBSTRU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947448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DICATION OF PROSTAGLANDI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YANOTIC LESIONS WITH OBSTRUCTION OF SYSTEMIC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RCTATION OF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ION OF AORTIC 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AORTIC 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LASTIC LEFT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8600" y="620640"/>
            <a:ext cx="996804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YANOSIS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ASSIFICATION OF CYANOSIS IN NEWBOR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  ( BEST  AT TONGUE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CARDIA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ULMON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NEUROMUSCULAR &amp; C.N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ERSISTENT PULMONARY HYPERTEN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METHAEMOGLOBINAEMIA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ULMONARY ARTERIOVENOUS FISTULA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( FINGERS &amp; TOE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OLOGICAL ( COL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ARDIAC OUTP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aynesed baby"/>
          <p:cNvPicPr/>
          <p:nvPr/>
        </p:nvPicPr>
        <p:blipFill>
          <a:blip r:embed="rId1"/>
          <a:stretch/>
        </p:blipFill>
        <p:spPr>
          <a:xfrm>
            <a:off x="2408400" y="333360"/>
            <a:ext cx="6262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SIS WITH DISTRESS  (CYANOSIS WITH HEART FAIL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ESENTATION  (CONT..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ANOSIS WITH OBSTRUCTIVE PULMONARY FLOW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USPID ATRES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LMONARY ATRESI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ULMONARY STE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STE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O. 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3" name="Picture 4" descr="ta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327320" y="2637000"/>
          <a:ext cx="7992720" cy="3279600"/>
        </p:xfrm>
        <a:graphic>
          <a:graphicData uri="http://schemas.openxmlformats.org/drawingml/2006/table">
            <a:tbl>
              <a:tblPr/>
              <a:tblGrid>
                <a:gridCol w="2997000"/>
                <a:gridCol w="2332080"/>
                <a:gridCol w="26636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ariable murmur or   none at 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yanosis tend to be   sev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VH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AD (0-9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erally normal size with elevated ap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c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9560" y="1080720"/>
            <a:ext cx="9474480" cy="7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                          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Tricuspid Atres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4-09-08T20:39:46Z</dcterms:modified>
  <cp:revision>201</cp:revision>
  <dc:subject/>
  <dc:title>CONGENTAL CYANOTIC HEART DISEASE</dc:title>
</cp:coreProperties>
</file>